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FD6-A1EE-4219-BEE5-BA647254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A3D-909F-4568-95C6-38FE5C87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F24-B830-49E2-A952-2A14CB9E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967-9A01-4F90-B460-BA854D98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7D73D-F681-4509-854F-83277EF8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1DEF2-93F7-46E0-9399-A3D13799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24FCE-0977-430B-B19A-2B705BC8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BD044-1D45-450C-8DCC-7998D1F0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B9767-ECA6-493B-898F-4BC7F406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1826F-843B-4071-AD52-BE26325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28AD2-DDED-42D7-AAF3-59BA8A2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1F1-76DC-4EFC-9597-FEF14E7B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69F27-A22B-4EF0-A96E-A72450F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C5F26-6576-43C9-BC6F-4A4FE70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3963D-3124-4E39-8112-E39D61AD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789AD-3CB0-4777-8B19-024AD63A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68638-ECAC-4C5A-B42E-E5849BAA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4F0-EC79-4870-8218-DAEB0370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520-96BC-4875-9F81-B25A0896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85F-47F7-4911-96CA-CF408BB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E11-97A1-447D-93FC-698D3C2C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93E-28D9-4E5C-85F7-27174235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2D8-4193-42DB-91E6-8BC3499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F4F-833D-4AEC-854A-3B2A3AD8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D017-2D06-4CA4-B7D6-5B163961A5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4FE6-6D17-4A03-BFAE-49C207DD81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ir, We Would See Jesus”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arter 9, Lesson 18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124080"/>
            <a:ext cx="6248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Period of Retir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. 8:19-22; 14:13 - 18:35; Mark 6:30 - 9:37; Luke 9:10-62; John 6:12 - 7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68-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27011-7C85-454A-BD99-FC1BC0E04F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Feeds the 5,000 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 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looked to heaven, blessed the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 distributed food until they were f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elve full baskets of food was left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ponse of the people: “ This is truly the Prophet who is to come into the worl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ent His disciples across the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ithdrew to a mountain to 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F96-C881-44C9-86F5-659C27116C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s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 The 5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demonstrates His creativ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is a rich provider of ou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to thank God daily for our temporal bless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hould not be wast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865-8CEA-498A-9090-B134F41EA5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Walks On The Water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47-52; Matt. 14:24-33; John 6:16-2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 left in a boat without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orm arose on the Sea of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les were greatly di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the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tch of the night (3 to 6 a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ppeared to them walking on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terrified; thought it was a gh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E09-058A-43F6-81F1-FE662E2EF2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Walks On The Water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47-52; Matt. 14:24-33; John 6:16-2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: “Take courage; it is I; do not be afrai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 answered: “Lord, if it is you, command me to come to you upon the wa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ook a few steps and began to 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ried out, ”Lord save 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ook his hand and said: ”O how little your faith is. Why did you doubt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F83-38C0-40E8-8C9C-B327A3B0C2CA}" type="slidenum">
              <a:t>13</a:t>
            </a:fld>
          </a:p>
        </p:txBody>
      </p:sp>
    </p:spTree>
  </p:cSld>
  <p:transition spd="med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ss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ing On The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ms of life will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strong in the faith - keep our focus on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ill hold up our hands - He will be there for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40B-4F35-493A-8403-706072D920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At Gennesaret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53-56; Matt. 14:34-36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eached the other side of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wds gathered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brought their sick to be h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just touched His garments and were h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539-78DC-42A1-9CE2-BFF46453F230}" type="slidenum">
              <a:t>15</a:t>
            </a:fld>
          </a:p>
        </p:txBody>
      </p:sp>
    </p:spTree>
  </p:cSld>
  <p:transition spd="med"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Life of Chr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312408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342900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455-CCF8-4C94-B659-EF707A1C0102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eriod of Retir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two years after He started His public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about 6 months – from the Passover feast (Spring) to Feast of Tabernacles (F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recorded withdrawals from th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D7E-4FFC-4544-84BC-A201B8F82071}" type="slidenum">
              <a:t>3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sons For Retir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withdraw from the multitudes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t to remot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each apostles special les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et som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91E-2751-40AA-B43E-381934C28ED3}" type="slidenum">
              <a:t>4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Apostles Return From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Limited Commission</a:t>
            </a: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ed on what they had done and t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rupted by large crowds - could not 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instructed the apostles to go to a quiet place and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eparted in a boat to Bethsaida on the eastern side of the Sea of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971-2C5D-491A-823E-601D01D8F0F2}" type="slidenum">
              <a:t>5</a:t>
            </a:fld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6019920" y="990720"/>
            <a:ext cx="182880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E1F1-9BE2-4D93-83C4-6B7ECF16AA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4AE-3552-4CA8-8CE6-3920A70602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The First Retirement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 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tudes followed on foot and arrived before Jesus and th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ad compassion on the multitude - they were like sheep without a shephe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poke to them about the kingdom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ealed the s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354-D1D4-49F5-B31A-C055B801A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Feeds the 5,000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 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ht time approaching - no place to eat or 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stles suggested that the crowd leave and seek food and shel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sked Philip, ”Where can we buy bread to feed them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knew what He was planning to do, but wanted to see how Philip would reac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77F-5C39-42C2-9263-2AF3CC780C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Jesus Feeds the 5,000 </a:t>
            </a:r>
            <a:br>
              <a:rPr sz="40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30-44; Matt. 14:13-21; Luke 9:10-17; John 6:1-15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responded:  200 denarii worth of bread is not sufficient for them (the denarius was equivalent to one day’s w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w told of a lad who had 5 barley loaves and 2 small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to tell the people to sit in groups of 50 and 100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94A-71C2-4293-83FD-BBAD15C88A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6:08:33Z</dcterms:created>
  <dc:creator>robert marshall</dc:creator>
  <dc:description/>
  <dc:language>en-US</dc:language>
  <cp:lastModifiedBy>Frank D Vines</cp:lastModifiedBy>
  <dcterms:modified xsi:type="dcterms:W3CDTF">2006-09-10T13:18:43Z</dcterms:modified>
  <cp:revision>12</cp:revision>
  <dc:subject/>
  <dc:title>Slide 1</dc:title>
</cp:coreProperties>
</file>